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A1A-FD20-450C-98E3-2CF310C3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FF72-2751-4D03-B9F6-A1AF90E6D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BF6E-C758-4570-A24D-A87776774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E57-BBB8-4E85-9075-6AF3BA33F4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82FE-8437-497C-8C94-91BC941E9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3FE8-CB5A-4426-ABE4-6EDCBA0B0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372-13DE-4A20-A3F6-4F2722387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2792-54BC-4D3C-A7AA-F0CC2DB528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8C63-6F0D-41CF-A293-577C934B3C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6E8-489A-4096-8136-A07997B7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3D8-CBCC-4477-B7E1-6ECE932B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5BE-69CF-4856-B307-B99C78EE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CBE-BC1F-43B4-8759-402B36C5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5DFD-27B9-4470-BC78-0A555CBF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7ED6-325B-47B1-867B-23BF1CB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877-CC94-414C-A7FF-876E846B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FB8-E20B-4222-99BB-FAA7B5FF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007A-B26A-4BE7-B2F1-71220A1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EEC6-7D49-46EF-B0F4-CF101A10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195A-599C-47EF-8228-B6C00A8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6F6-C3D7-44B1-BE2F-BB747D18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7BAB-A63B-48AC-A42F-6530CEA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F604-E83D-4410-89E3-D27D858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5E07-2FAB-4909-B94F-0A8DE04B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0468-C639-44BC-8041-700B3AAA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EAF-9B35-4F8B-9B2E-5AC726B2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991-898C-4BD2-999D-0DE5D39C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255-4C65-4CE4-AB72-4D3E899D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50F-CD31-4D3D-A21C-8CE351EC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B79-B13B-4A72-A245-E80D4EC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A1C-F69B-42D2-A622-A7962E12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3CB-65D7-47C8-A737-976CEEE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863-CB06-462C-92BE-A5CCC24A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94E-804C-46A8-BC74-CFE110D85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BF0-D357-4A6A-AE84-BAB5128717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upload.wikimedia.org/wikipedia/commons/e/e6/Rock_paper_scissors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dustrial Revolution, Imperialism, and Nationa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 Costs &amp; Benefits Char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 Effects of Industrial R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ization: Move from country to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laws: Child labor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Reforms: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olitical ideas: Socialism,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erialism: Need more raw materials &amp; markets to sell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chambea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181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competing in Rochamb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ime you win – you receive a candy from your op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are out of candy you are out of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 to be the grea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Image:Rock paper scisso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3992400"/>
            <a:ext cx="35812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s &amp; Negatives of the Industrial Rev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More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Wealth of countri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Higher standard of l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Production of good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New in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Improvements in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Expanded educational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Better diets &amp; ho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New middle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Government more invol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ild labor 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Labor unions 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426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work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Life expectancy decreases for the poor (by 10 yea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years of 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Work dictate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vs. Rochamb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837720"/>
            <a:ext cx="4267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 ownership of industry, competition = unequal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Strug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per class and working class struggle over w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Revo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is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ovt. owns industry, goal of equality &amp; classlessn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s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government, no clas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7960" y="837720"/>
            <a:ext cx="4343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ism in the G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dy, game, few win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gg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d, frust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aling, che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candy, redistribute it equ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andy is eq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game/tea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reme unequal w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y owners have more money then 95 percent of society can even ima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oney is being made from poor children an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end themselv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image_wealth"/>
          <p:cNvPicPr/>
          <p:nvPr/>
        </p:nvPicPr>
        <p:blipFill>
          <a:blip r:embed="rId4"/>
          <a:stretch/>
        </p:blipFill>
        <p:spPr>
          <a:xfrm>
            <a:off x="6324480" y="3886200"/>
            <a:ext cx="2314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rwin's The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originally implies that stronger animals kill weaker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nature by leaving only str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r?t=a&amp;d=us&amp;s=a&amp;c=p&amp;ti=1&amp;ai=30751&amp;l=dir&amp;o=0&amp;sv=0a30051a&amp;ip=465e209c&amp;u=http%3A%2F%2Fwww"/>
          <p:cNvPicPr/>
          <p:nvPr/>
        </p:nvPicPr>
        <p:blipFill>
          <a:blip r:embed="rId3"/>
          <a:stretch/>
        </p:blipFill>
        <p:spPr>
          <a:xfrm>
            <a:off x="5867280" y="38098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not hum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y is used to construct Social Darwi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belief that wealthy factory owners are naturally str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ing the poor would only weaken hum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Mario Bros. Survival of the Fittest  T-Shirt"/>
          <p:cNvPicPr/>
          <p:nvPr/>
        </p:nvPicPr>
        <p:blipFill>
          <a:blip r:embed="rId4"/>
          <a:stretch/>
        </p:blipFill>
        <p:spPr>
          <a:xfrm>
            <a:off x="4648320" y="1600200"/>
            <a:ext cx="4403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l Marx – believed struggle between rich and poor would always lead to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eliminate rich and poor which will eliminate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r?t=a&amp;d=us&amp;s=a&amp;c=p&amp;ti=1&amp;ai=30751&amp;l=dir&amp;o=0&amp;sv=0a300513&amp;ip=465e209c&amp;u=http%3A%2F%2Fwww"/>
          <p:cNvPicPr/>
          <p:nvPr/>
        </p:nvPicPr>
        <p:blipFill>
          <a:blip r:embed="rId4"/>
          <a:stretch/>
        </p:blipFill>
        <p:spPr>
          <a:xfrm>
            <a:off x="5486400" y="3352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x’s Commu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people begin with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apital is not equally di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ociety is broken down into haves and have n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Have-nots get mad and conflict between classes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Have-nots revolt, creating a government that takes from rich and gives to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Capital is divided eq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Competition ceases – everyone is equ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blems are created by trying to divide things equ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blems plague communist cou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blems plague capitalist count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ystem is worse?  Exp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rban Gam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y this activity was done. What was the purpose of using class time to do the Urban Gam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ould do the Urban Game again, what would you do differently and what would you do the same? Explain your answ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answer to these two questions should be at least one paragraph (minimum of 5 sentences) on the back of your urban game shee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: The first person to write the correct answer gets to pick a person to take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 may only pick people/groups of equal or smaller 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ion is demanded, help your team dominate your fo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" descr="http://l.yimg.com/g/images/spaceball.gif"/>
          <p:cNvPicPr/>
          <p:nvPr/>
        </p:nvPicPr>
        <p:blipFill>
          <a:blip r:embed="rId4"/>
          <a:stretch/>
        </p:blipFill>
        <p:spPr>
          <a:xfrm>
            <a:off x="3809880" y="-178596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/prom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leaders of the Scientific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developed the first written langu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 Brewers called before this na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exact date of WW2’s star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nvented the printing pr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topic of the first unit in the textboo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Renaissance m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resident was shot in 196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Johnny Depp mo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SOAPS stan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mupp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han Hale served in what w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Adam Sandler mo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shot Abraham Lincol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what continent can I find the country of Swazil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ish the pattern: 15, 30, 60, 120, 240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x9+9=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one entertainer on this season of Dancing with the St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on last years World Seri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when you get a “turkey” in bowl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at continent are the Andes Mountai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NATO stand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types/brands of ce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as the last Queen of Hawa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you pick the people of groups you cho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is game was like imperi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ey ar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(should have been) the strategy in the g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begins to happen as the game continues on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ree/Disag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are born superior to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lthy should pay more in ta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ity leads to the suffering of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law is an infraction of liberty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ent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progress can be measured by the social position of the female sex” -Ma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stories of mankind are histories only of the higher classes” -Malth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.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Imperia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A policy in which a strong n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eks to dominate other count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Occurred 1850-19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http://rds.yahoo.com/_ylt=A9iby4fwtDZGQmYAVVejzbkF;_ylu=X3oDMTBsMW5yM3VoBHNlYwNwcm9mBHZ0aWQDSTA2Nl84OA--/SIG=128h7faop/EXP=1178076784/**http%3A/www.hyperhelper.org/williams/imperialism2.jpg"/>
          <p:cNvPicPr/>
          <p:nvPr/>
        </p:nvPicPr>
        <p:blipFill>
          <a:blip r:embed="rId1"/>
          <a:stretch/>
        </p:blipFill>
        <p:spPr>
          <a:xfrm>
            <a:off x="990720" y="4159080"/>
            <a:ext cx="66848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. Reasons for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Political Rival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Quest for colonies limit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Industrial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Need for raw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eed for new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ligion: Convert to Christia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Feelings of racial &amp; cultural supe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Goal: To “civilize” people of Africa &amp;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Imposed Christianity &amp; Western customs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s on conquered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Forms of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Colony: A country or territory governed internally by a foreign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liland (French Colo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Protectorate: Country had own internal gov., but under control of an outsid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er River (British Contr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 Form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Sphere of Influence: An outside power held exclusive trading rights in a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eria (US influ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Economic Imperialism: A business controls an underdevelope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e fruit controlled Hawa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Imperialism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happening in Afr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olonel Patterson’s jo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ettlement and the work force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British w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roblems facing the settl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s://encrypted-tbn1.gstatic.com/images?q=tbn:ANd9GcRuvbDDlb6v13mMY5UY3jvQA3qgbBSQ2qib_aZqaAVF_MCDOyou"/>
          <p:cNvPicPr/>
          <p:nvPr/>
        </p:nvPicPr>
        <p:blipFill>
          <a:blip r:embed="rId1"/>
          <a:stretch/>
        </p:blipFill>
        <p:spPr>
          <a:xfrm>
            <a:off x="66600" y="20520"/>
            <a:ext cx="9056880" cy="61516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Intro to the 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21896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Agricultural Adv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arming Improvements allow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nclosure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ommon lands were purchased and f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Two options for the poorer farmers: Becom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ant farmers OR Move to the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Wealthy Farmers experiment with ne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 (crop rotation, selective bree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. Reasons for European su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Weapons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New Inven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lroad, Steam engi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nine drug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Weakness of non-Western states: Lacked unity, w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entralized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vickers%20MKI"/>
          <p:cNvPicPr/>
          <p:nvPr/>
        </p:nvPicPr>
        <p:blipFill>
          <a:blip r:embed="rId1"/>
          <a:stretch/>
        </p:blipFill>
        <p:spPr>
          <a:xfrm>
            <a:off x="6019920" y="1295280"/>
            <a:ext cx="3124080" cy="1447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A1673"/>
          <p:cNvPicPr/>
          <p:nvPr/>
        </p:nvPicPr>
        <p:blipFill>
          <a:blip r:embed="rId2"/>
          <a:stretch/>
        </p:blipFill>
        <p:spPr>
          <a:xfrm>
            <a:off x="5686560" y="2743200"/>
            <a:ext cx="3457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lain the quote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un never sets on the British Empir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IMG_0813"/>
          <p:cNvPicPr/>
          <p:nvPr/>
        </p:nvPicPr>
        <p:blipFill>
          <a:blip r:embed="rId1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1y7syo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= British Empire during Age of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The_British_Empire"/>
          <p:cNvPicPr/>
          <p:nvPr/>
        </p:nvPicPr>
        <p:blipFill>
          <a:blip r:embed="rId1"/>
          <a:stretch/>
        </p:blipFill>
        <p:spPr>
          <a:xfrm>
            <a:off x="380880" y="1824120"/>
            <a:ext cx="83822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I. Imperialism in Afr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Little was known about Africa until 18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David Livingstone: Scottish missionary/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tor explored central &amp; eastern Afr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Reports of journey sent to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Lost touch: British journalist Hen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ley sent to fin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New interest i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 Man’s Bur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http://rds.yahoo.com/_ylt=A9ibyGZDtDZGOZwAI46jzbkF;_ylu=X3oDMTBsMW5yM3VoBHNlYwNwcm9mBHZ0aWQDSTA2Nl84OA--/SIG=13tigmh6t/EXP=1178076611/**http%3A/www.history.ucsb.edu/faculty/marcuse/classes/2c/images/1899WhiteMansBurden$Detroit200dpi300pxw.jpg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343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1143000" y="59436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essage of this carto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White Man’s Bur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m written by Rudyard Kipling in England to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ustified imperialism as a "duty" to civilize inferior race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864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ssage of this carto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http://rds.yahoo.com/_ylt=A9iby4B8tDZGAaUABVmjzbkF;_ylu=X3oDMTBsMW5yM3VoBHNlYwNwcm9mBHZ0aWQDSTA2Nl84OA--/SIG=12ec4k6s5/EXP=1178076668/**http%3A/www.ocf.berkeley.edu/~trisha/contemp/pics/civil.jpg"/>
          <p:cNvPicPr/>
          <p:nvPr/>
        </p:nvPicPr>
        <p:blipFill>
          <a:blip r:embed="rId2"/>
          <a:stretch/>
        </p:blipFill>
        <p:spPr>
          <a:xfrm>
            <a:off x="685800" y="277920"/>
            <a:ext cx="746748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. Effects of Imperialism on Af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mperialists profited from colonies: Dug  mines, began plantations, &amp; built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Hired Africans at low w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Destroyed Africans traditional ways of lif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Taught European ways were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Taught to reject African customs &amp; belie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mission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earned to read European books &amp; w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pean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erialism in Asi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British Imperialism in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dia's trade controlled by East India Company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1600'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Mughal empire ended in 17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nsidered India the "jewel in the crown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Why? Most valuable British col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Sepoy Rebe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Indian soldiers (sepoys) rebelled again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commanders in 18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Lasted for 1 year: F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Result: Viceroy sent to take over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ationalist groups formed: Wanted fre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erialism in As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. Ch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Had no interest in European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anted to keep to their traditional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971800" y="2917800"/>
            <a:ext cx="2666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Preindustrial vs Industrial Ti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INDUSTRIAL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EFORE 1700’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Lived in small vill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Worked as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Grew or made what the family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Domestic system: Made goods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24280" y="17521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USTRIAL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700-19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Lived in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Worked in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Needed $ to buy goods &amp;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Factory System: Made goods in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orced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ngland had little to o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pium from India brought t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Country became unproductive &amp; qu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life decl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Government banned its use and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England did not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Trea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ngland demanded the opening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na &amp; free trade righ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pen Door Policy: China’s “doors”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merchants of all n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China had no choice but to ag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England will hold on to land rights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g Kong until 1997 (150 yea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. Japa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Adopted Western moder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Focused on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Universal education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Strengthened mil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ecame strongest military power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ame motives &amp; advantages as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stablished overseas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Taiwan, Pescadores Islands, &amp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Started in England: 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xpanding Economy: Banking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ural Resour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Water power &amp; coal: Fuel new mach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ron: Construct machines, tools &amp; build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arbors &amp; Rivers to transport go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Growing Population: Workfo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dvances in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: led to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in facto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Political S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Navy: Greatest on the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england2"/>
          <p:cNvPicPr/>
          <p:nvPr/>
        </p:nvPicPr>
        <p:blipFill>
          <a:blip r:embed="rId1"/>
          <a:stretch/>
        </p:blipFill>
        <p:spPr>
          <a:xfrm>
            <a:off x="6118200" y="4114800"/>
            <a:ext cx="3025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 Positives &amp; Negatives of the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Industrial Rev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Use pages 723-728 in the book to create a list of positives &amp; negatives of the Industrial Revolu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914400" y="41148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4191120" y="41911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s &amp; Negatives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s &amp; Indus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VES (BENEF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More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Wealth of countri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Higher standard of l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Production of good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New in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Improvements in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Expanded educational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Government more invol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ild labor 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Labor unions 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426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S (C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New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oor san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Overcrow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s &amp; Negatives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manity &amp; Individu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VES (BENEF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More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Higher standard of l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i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Improvements i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Expanded educational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Better diets &amp; ho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middl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Child labor la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426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S (C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work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New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or 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Life expectancy decreases for the poor (by 10 yea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years of 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Work dictate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smallmill"/>
          <p:cNvPicPr/>
          <p:nvPr/>
        </p:nvPicPr>
        <p:blipFill>
          <a:blip r:embed="rId1"/>
          <a:stretch/>
        </p:blipFill>
        <p:spPr>
          <a:xfrm>
            <a:off x="152280" y="0"/>
            <a:ext cx="4267440" cy="3567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rds.yahoo.com/_ylt=A9iby6A9FjBGGm0ATI.jzbkF;_ylu=X3oDMTBsMW5yM3VoBHNlYwNwcm9mBHZ0aWQDSTA2Nl84OA--/SIG=12rfu2ddr/EXP=1177642941/**http%3A/www.mtholyoke.edu/courses/rschwart/ind_rev/images/IR36GR21x1.jpg"/>
          <p:cNvPicPr/>
          <p:nvPr/>
        </p:nvPicPr>
        <p:blipFill>
          <a:blip r:embed="rId2"/>
          <a:stretch/>
        </p:blipFill>
        <p:spPr>
          <a:xfrm>
            <a:off x="4432320" y="0"/>
            <a:ext cx="4711680" cy="359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http://rds.yahoo.com/_ylt=A9ibyGUJFzBGH4sAg4ijzbkF;_ylu=X3oDMTBsMW5yM3VoBHNlYwNwcm9mBHZ0aWQDSTA2Nl84OA--/SIG=12npeus4d/EXP=1177643145/**http%3A/www.cas.usf.edu/history/Syllabi/Levy/2010images/tenement.jpg"/>
          <p:cNvPicPr/>
          <p:nvPr/>
        </p:nvPicPr>
        <p:blipFill>
          <a:blip r:embed="rId3"/>
          <a:stretch/>
        </p:blipFill>
        <p:spPr>
          <a:xfrm>
            <a:off x="6172200" y="3581280"/>
            <a:ext cx="2971800" cy="3276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rain"/>
          <p:cNvPicPr/>
          <p:nvPr/>
        </p:nvPicPr>
        <p:blipFill>
          <a:blip r:embed="rId4"/>
          <a:stretch/>
        </p:blipFill>
        <p:spPr>
          <a:xfrm>
            <a:off x="0" y="35812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v0_master"/>
          <p:cNvPicPr/>
          <p:nvPr/>
        </p:nvPicPr>
        <p:blipFill>
          <a:blip r:embed="rId5"/>
          <a:stretch/>
        </p:blipFill>
        <p:spPr>
          <a:xfrm>
            <a:off x="3352680" y="358128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20:51:04Z</dcterms:created>
  <dc:creator>School District</dc:creator>
  <dc:description/>
  <dc:language>en-US</dc:language>
  <cp:lastModifiedBy>Kuenzi</cp:lastModifiedBy>
  <dcterms:modified xsi:type="dcterms:W3CDTF">2014-03-31T12:25:20Z</dcterms:modified>
  <cp:revision>48</cp:revision>
  <dc:subject/>
  <dc:title>Industrial Revolution</dc:title>
</cp:coreProperties>
</file>